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gif" ContentType="image/gif"/>
  <Override PartName="/ppt/media/image4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62E-ABCF-4767-9875-2674FD0F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5ED-D7B7-4AF7-969D-9EF9FB40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F169-0AC3-4623-A8BE-1FBD99B6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CD7-AE84-4B3E-A073-A612BC0B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30C5-2C49-4265-8887-AE73F91F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69A3-B4B7-4166-9562-A4441541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E26A-D347-4F44-8028-2B1760B1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3E1-D26C-45FF-ADF1-65AA5333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57C-BBA2-4614-852D-EA10766D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349-64C7-4C15-95F4-755128FD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EFA-E525-4E8C-AAAA-C18F6A1B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3CD5-BCFC-4CC6-A845-5A223F84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9351-1CBE-49D3-93F4-C98C763EC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w3.org/TR/2004/NOTE-ws-arch-20040211" TargetMode="External"/><Relationship Id="rId2" Type="http://schemas.openxmlformats.org/officeDocument/2006/relationships/hyperlink" Target="http://www.w3.org/TR/2004/NOTE-ws-arch-scenarios-20040211" TargetMode="External"/><Relationship Id="rId3" Type="http://schemas.openxmlformats.org/officeDocument/2006/relationships/hyperlink" Target="http://www.w3.org/TR/2004/NOTE-ws-gloss-20040211" TargetMode="External"/><Relationship Id="rId4" Type="http://schemas.openxmlformats.org/officeDocument/2006/relationships/hyperlink" Target="http://www.w3.org/2002/ws/desc/wsdl20-primer" TargetMode="External"/><Relationship Id="rId5" Type="http://schemas.openxmlformats.org/officeDocument/2006/relationships/hyperlink" Target="http://www.w3.org/TR/2004/WD-wsdl20-20040326" TargetMode="External"/><Relationship Id="rId6" Type="http://schemas.openxmlformats.org/officeDocument/2006/relationships/hyperlink" Target="http://www.w3.org/TR/2004/WD-wsdl20-patterns-20040326" TargetMode="External"/><Relationship Id="rId7" Type="http://schemas.openxmlformats.org/officeDocument/2006/relationships/hyperlink" Target="http://www.w3.org/TR/2003/WD-wsdl12-bindings-20030611" TargetMode="External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w3.org/TR/2003/REC-soap12-part0-20030624/" TargetMode="External"/><Relationship Id="rId2" Type="http://schemas.openxmlformats.org/officeDocument/2006/relationships/hyperlink" Target="http://www.w3.org/TR/2003/REC-soap12-part1-20030624/" TargetMode="External"/><Relationship Id="rId3" Type="http://schemas.openxmlformats.org/officeDocument/2006/relationships/hyperlink" Target="http://www.w3.org/TR/2003/REC-soap12-part2-20030624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66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227640" y="5229360"/>
            <a:ext cx="2376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υρίτση Σοφ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σολάκης Γιάνν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Φράγκος Μάκ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360" y="3036960"/>
            <a:ext cx="22161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000000"/>
                </a:solidFill>
                <a:latin typeface="Arial"/>
              </a:rPr>
              <a:t>SOAP Message Exchange Pattern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P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είναι ένα υπόδειγμα που καθιερώνει ένα πρότυπο για την ανταλλαγή των μηνυμάτων μεταξύ των κόμβω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P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7280" y="1917720"/>
            <a:ext cx="7056720" cy="424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255160" y="620640"/>
            <a:ext cx="888840" cy="622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842200" y="6091920"/>
            <a:ext cx="370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The Request-Response M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Η σύνταξη το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A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Έν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AP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μήνυμα είναι ένα απλ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 document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τ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ποίο περιέχει τα εξής στοιχεία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velop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είναι υποχρεωτικό και είναι αυτό που προσδιορίζει ότι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 document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είναι έν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AP message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ead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είναι προαιρετικό και περιέχει πληροφορίες κεφαλίδα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είναι υποχρεωτικό και περιέχει τις πληροφορίες που αποτελούν το πραγματικό μήνυμ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ult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είναι προαιρετικό και παρέχει πληροφορίες σχετικά με λάθη που μπορεί να συμβούν κατά τη διάρκεια της επικοινωνία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24720" y="549360"/>
            <a:ext cx="88920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0" y="1052640"/>
            <a:ext cx="6154920" cy="5732280"/>
          </a:xfrm>
          <a:prstGeom prst="rect">
            <a:avLst/>
          </a:prstGeom>
          <a:solidFill>
            <a:srgbClr val="fff2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Ένα παράδειγμ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71640" y="1196640"/>
            <a:ext cx="65149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env:Envelope xmlns:env="http://www.w3.org/200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/0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/soap-envelop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env:Header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n:alertcontrol xmlns:n="http://example.org/alertcontrol"&gt;  &lt;n:priority&gt;1&lt;/n:priority&gt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n:expires&gt;2001-06-22T14:00:00-05:00&lt;/n:expire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/n:alertcontrol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/env:Hea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env:Body&gt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m:alert xmlns:m="http://example.org/aler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m:msg&gt;Pick up Mary at school at 2pm&lt;/m:msg&gt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/m:aler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/env: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/env:Envelo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889200" cy="62244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6012000" y="1557360"/>
            <a:ext cx="3132000" cy="4392720"/>
            <a:chOff x="6012000" y="1557360"/>
            <a:chExt cx="3132000" cy="4392720"/>
          </a:xfrm>
        </p:grpSpPr>
        <p:sp>
          <p:nvSpPr>
            <p:cNvPr id="123" name=""/>
            <p:cNvSpPr/>
            <p:nvPr/>
          </p:nvSpPr>
          <p:spPr>
            <a:xfrm>
              <a:off x="6012000" y="1557360"/>
              <a:ext cx="3132000" cy="4392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Century Gothic"/>
                </a:rPr>
                <a:t>SOAP Envelop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27640" y="2332080"/>
              <a:ext cx="2697120" cy="1422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Century Gothic"/>
                </a:rPr>
                <a:t>SOAP 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27640" y="4270320"/>
              <a:ext cx="2697120" cy="1292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Century Gothic"/>
                </a:rPr>
                <a:t>SOAP 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03960" y="2978280"/>
              <a:ext cx="2444760" cy="387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Century Gothic"/>
                </a:rPr>
                <a:t>Header Block: alert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03960" y="4952880"/>
              <a:ext cx="2516040" cy="387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Century Gothic"/>
                </a:rPr>
                <a:t>Body sub-element: ale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084720" y="609300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Η δομή του παραδείγματο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 bindin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προδιαγραφή για το πώς τ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AP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μηνύματα μπορούν να περάσουν από έναν κόμβ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AP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σε έναν άλλο χρησιμοποιώντας ένα πρωτόκολλο καλείτα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AP binding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binding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AP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ίναι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88884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AP HTTP Bin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μέθοδος το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AP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ίναι ένα αίτημα/απόκριση το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reques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) που συμμορφώνεται σύμφωνα με τους κανόνες κωδικοποίησης το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AP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άρχουν δύο πρότυπα ανταλλαγής μηνυμάτων που καθορίζονται για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binding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1)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AP HTTP GE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, και 2)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AP HTTP POS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380360" y="549360"/>
            <a:ext cx="888840" cy="622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55640" y="3500280"/>
            <a:ext cx="2951280" cy="432000"/>
          </a:xfrm>
          <a:prstGeom prst="rect">
            <a:avLst/>
          </a:prstGeom>
          <a:solidFill>
            <a:srgbClr val="fff6e7"/>
          </a:solidFill>
          <a:ln w="9360">
            <a:solidFill>
              <a:srgbClr val="d7cd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Πιθανά μελλοντικά προβλήματ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05372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AP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έχει τη δυνατότητα να διαπερνά τα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ewalls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AP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δεν απαιτε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να έχει πρόσβαση σε πρόσθετα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ts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στου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ewall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ντιλαμβάνεται τα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s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ου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AP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σαν “Web page request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 u="sng">
                <a:solidFill>
                  <a:srgbClr val="000000"/>
                </a:solidFill>
                <a:uFillTx/>
                <a:latin typeface="Arial"/>
              </a:rPr>
              <a:t>Απειλ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ι πιθανοί εισβολείς θα ανακαλύψουν τις αδυναμίες του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AP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 u="sng">
                <a:solidFill>
                  <a:srgbClr val="000000"/>
                </a:solidFill>
                <a:uFillTx/>
                <a:latin typeface="Arial"/>
              </a:rPr>
              <a:t>Συνέπει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ι κανόνες ασφάλειας θα αλλάξου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889200" cy="622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35520" y="981000"/>
            <a:ext cx="51260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έκταση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AP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 ασύρματες μικροσυσκευέ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6280" y="1600200"/>
            <a:ext cx="78580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P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μπορεί να συμμετέχει σε διάφορες μορφές συναλλαγών μέσω του Διαδικτύου, όπως είναι οι υπηρεσίες ενημέρωσης για τις πτήσεις των αεροπλάνων μέσω κινητού τηλεφώνου, έλεγχος των "έξυπνων" κτηρίων μέσο μικροσυσκευών κ.λ.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λοποιήσεις για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s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ια ενσωματωμένες συσκευές έχουν αναπτυχθεί αρκετέ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παραπάνω είναι υλοποιήσεις το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P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 κάποιες διαφοροποιήσεις για να μπορούν να προσαρμοστούν στους αυστηρούς περιορισμούς των ενσωματωμένων συσκευών όπω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ιωμένες απαιτήσεις σε μνήμ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ιωμέν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956720" y="549360"/>
            <a:ext cx="88884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Συμπέρασ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πειδή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AP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ίναι βασισμένο στις απλές κα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οικτές τεχνολογίες XML και HTTP, έχει γίνει τ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έο πρότυπο για τη επικοινωνία μεταξ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φαρμογών μέσ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 Συνδεμένο με τ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λώσσα περιγραφής υπηρεσιών Ιστού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SD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ι το UDD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y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,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AP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αποτελεί έ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ομμάτι της επιτυχημένης αρχιτεκτονικής τ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ices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549360"/>
            <a:ext cx="88920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WSDL 2.0</a:t>
            </a:r>
            <a:br>
              <a:rPr sz="5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Web Service Definition Language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W3C Working Grou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-3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684360" y="4718160"/>
            <a:ext cx="7704000" cy="1447560"/>
            <a:chOff x="684360" y="4718160"/>
            <a:chExt cx="7704000" cy="1447560"/>
          </a:xfrm>
        </p:grpSpPr>
        <p:grpSp>
          <p:nvGrpSpPr>
            <p:cNvPr id="148" name=""/>
            <p:cNvGrpSpPr/>
            <p:nvPr/>
          </p:nvGrpSpPr>
          <p:grpSpPr>
            <a:xfrm>
              <a:off x="684360" y="5030640"/>
              <a:ext cx="7704000" cy="1135080"/>
              <a:chOff x="684360" y="5030640"/>
              <a:chExt cx="7704000" cy="1135080"/>
            </a:xfrm>
          </p:grpSpPr>
          <p:pic>
            <p:nvPicPr>
              <p:cNvPr id="1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4360" y="5030640"/>
                <a:ext cx="1823760" cy="11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2195640" y="5607000"/>
                <a:ext cx="1512720" cy="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3708360" y="5102280"/>
                <a:ext cx="1584360" cy="1063440"/>
                <a:chOff x="3708360" y="5102280"/>
                <a:chExt cx="1584360" cy="1063440"/>
              </a:xfrm>
            </p:grpSpPr>
            <p:sp>
              <p:nvSpPr>
                <p:cNvPr id="152" name="Cloud"/>
                <p:cNvSpPr/>
                <p:nvPr/>
              </p:nvSpPr>
              <p:spPr>
                <a:xfrm>
                  <a:off x="3708360" y="5102280"/>
                  <a:ext cx="1584360" cy="106344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997440" y="5398920"/>
                  <a:ext cx="1018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Arial"/>
                    </a:rPr>
                    <a:t>Interne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559560" y="5030640"/>
                <a:ext cx="1828800" cy="112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5292720" y="5607000"/>
                <a:ext cx="1584360" cy="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6702840" y="4718160"/>
              <a:ext cx="15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Web 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084720" y="5157720"/>
            <a:ext cx="1008360" cy="432000"/>
          </a:xfrm>
          <a:prstGeom prst="cube">
            <a:avLst>
              <a:gd name="adj" fmla="val 20259"/>
            </a:avLst>
          </a:prstGeom>
          <a:gradFill rotWithShape="0">
            <a:gsLst>
              <a:gs pos="0">
                <a:srgbClr val="00cc00"/>
              </a:gs>
              <a:gs pos="100000">
                <a:srgbClr val="99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84720" y="5157720"/>
            <a:ext cx="1008360" cy="432000"/>
          </a:xfrm>
          <a:prstGeom prst="cube">
            <a:avLst>
              <a:gd name="adj" fmla="val 20259"/>
            </a:avLst>
          </a:prstGeom>
          <a:gradFill rotWithShape="0">
            <a:gsLst>
              <a:gs pos="0">
                <a:srgbClr val="ff66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084720" y="4732200"/>
            <a:ext cx="1008000" cy="857160"/>
            <a:chOff x="6084720" y="4732200"/>
            <a:chExt cx="1008000" cy="857160"/>
          </a:xfrm>
        </p:grpSpPr>
        <p:sp>
          <p:nvSpPr>
            <p:cNvPr id="160" name=""/>
            <p:cNvSpPr/>
            <p:nvPr/>
          </p:nvSpPr>
          <p:spPr>
            <a:xfrm>
              <a:off x="6084720" y="5157720"/>
              <a:ext cx="1008000" cy="431640"/>
            </a:xfrm>
            <a:prstGeom prst="cube">
              <a:avLst>
                <a:gd name="adj" fmla="val 20259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43560" y="47322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Επικοινωνία μ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έσο επικοινωνίας: </a:t>
            </a:r>
            <a:r>
              <a:rPr b="0" lang="el-GR" sz="2200" spc="-1" strike="noStrike">
                <a:solidFill>
                  <a:srgbClr val="333399"/>
                </a:solidFill>
                <a:latin typeface="Arial"/>
              </a:rPr>
              <a:t>μήνυμα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essa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3399"/>
                </a:solidFill>
                <a:latin typeface="Arial"/>
              </a:rPr>
              <a:t>Τρόποι ανταλλαγής μηνυμάτ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essage exchange patter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5280" y="5157720"/>
            <a:ext cx="1008000" cy="432000"/>
          </a:xfrm>
          <a:prstGeom prst="cube">
            <a:avLst>
              <a:gd name="adj" fmla="val 20259"/>
            </a:avLst>
          </a:prstGeom>
          <a:gradFill rotWithShape="0">
            <a:gsLst>
              <a:gs pos="0">
                <a:srgbClr val="00cc00"/>
              </a:gs>
              <a:gs pos="100000">
                <a:srgbClr val="99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35280" y="5157720"/>
            <a:ext cx="1008000" cy="432000"/>
          </a:xfrm>
          <a:prstGeom prst="cube">
            <a:avLst>
              <a:gd name="adj" fmla="val 20259"/>
            </a:avLst>
          </a:prstGeom>
          <a:gradFill rotWithShape="0">
            <a:gsLst>
              <a:gs pos="0">
                <a:srgbClr val="ff66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03480" y="2852640"/>
            <a:ext cx="21081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ust In-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Optional-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2828880"/>
            <a:ext cx="22320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-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ust Out-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-Optional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835280" y="4732200"/>
            <a:ext cx="1008000" cy="857160"/>
            <a:chOff x="1835280" y="4732200"/>
            <a:chExt cx="1008000" cy="857160"/>
          </a:xfrm>
        </p:grpSpPr>
        <p:sp>
          <p:nvSpPr>
            <p:cNvPr id="169" name=""/>
            <p:cNvSpPr/>
            <p:nvPr/>
          </p:nvSpPr>
          <p:spPr>
            <a:xfrm>
              <a:off x="1835280" y="5157720"/>
              <a:ext cx="1008000" cy="431640"/>
            </a:xfrm>
            <a:prstGeom prst="cube">
              <a:avLst>
                <a:gd name="adj" fmla="val 20259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94120" y="47322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remove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6763E-006 L 0.50417 1.6763E-006 E">
                                      <p:cBhvr>
                                        <p:cTn id="177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evt="end">
                                        <p:tn val="176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remove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04046E-006 L 0.46459 1.04046E-006 E">
                                      <p:cBhvr>
                                        <p:cTn id="191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evt="end">
                                        <p:tn val="190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500"/>
                            </p:stCondLst>
                            <p:childTnLst>
                              <p:par>
                                <p:cTn id="198" nodeType="afterEffect" fill="remove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1.04046E-006 L -0.45694 1.04046E-006 E">
                                      <p:cBhvr>
                                        <p:cTn id="199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evt="end">
                                        <p:tn val="198"/>
                                      </p:cond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remove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04046E-006 L 0.46476 1.04046E-006 E">
                                      <p:cBhvr>
                                        <p:cTn id="21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evt="end">
                                        <p:tn val="212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remove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1.04046E-006 L -0.45694 1.04046E-006 E">
                                      <p:cBhvr>
                                        <p:cTn id="221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evt="end">
                                        <p:tn val="220"/>
                                      </p:cond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remove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1.04046E-006 L 0.46475 1.04046E-006 E">
                                      <p:cBhvr>
                                        <p:cTn id="235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evt="end">
                                        <p:tn val="234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5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500"/>
                            </p:stCondLst>
                            <p:childTnLst>
                              <p:par>
                                <p:cTn id="242" nodeType="afterEffect" fill="remove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91329E-006 L -0.45677 0.00046 E">
                                      <p:cBhvr>
                                        <p:cTn id="243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evt="end">
                                        <p:tn val="242"/>
                                      </p:cond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remove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1.04046E-006 L -0.45694 1.04046E-006 E">
                                      <p:cBhvr>
                                        <p:cTn id="257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evt="end">
                                        <p:tn val="256"/>
                                      </p:cond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remove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1.04046E-006 L -0.45694 1.04046E-006 E">
                                      <p:cBhvr>
                                        <p:cTn id="271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evt="end">
                                        <p:tn val="270"/>
                                      </p:cond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remove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1.04046E-006 L 0.46475 1.04046E-006 E">
                                      <p:cBhvr>
                                        <p:cTn id="279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evt="end">
                                        <p:tn val="278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remove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1.04046E-006 L -0.45694 1.04046E-006 E">
                                      <p:cBhvr>
                                        <p:cTn id="293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evt="end">
                                        <p:tn val="292"/>
                                      </p:cond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" nodeType="afterEffect" fill="remove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1.04046E-006 L 0.46475 1.04046E-006 E">
                                      <p:cBhvr>
                                        <p:cTn id="301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02" dur="1" fill="hold">
                                    <p:stCondLst>
                                      <p:cond evt="end">
                                        <p:tn val="300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remove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1.04046E-006 L -0.45694 1.04046E-006 E">
                                      <p:cBhvr>
                                        <p:cTn id="315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evt="end">
                                        <p:tn val="314"/>
                                      </p:cond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remove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46821E-006 L 0.46476 0.00047 E">
                                      <p:cBhvr>
                                        <p:cTn id="323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2"/>
                                      </p:cond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08000" y="1773360"/>
            <a:ext cx="9396360" cy="21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36720" y="4294080"/>
            <a:ext cx="5472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Αποσκοπεί στην επικοινωνία με </a:t>
            </a:r>
            <a:r>
              <a:rPr b="1" lang="el-GR" sz="2000" spc="-1" strike="noStrike" u="sng">
                <a:solidFill>
                  <a:srgbClr val="ff0000"/>
                </a:solidFill>
                <a:uFillTx/>
                <a:latin typeface="Arial"/>
              </a:rPr>
              <a:t>άνθρωπ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σοδο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φόρμ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ξοδο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96920" y="1989000"/>
            <a:ext cx="52390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έννοιε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ύνολ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πολύ 2) συγκεκριμένων μηνυμάτων που ακολουθούν συγκεκριμέν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 pattern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ειτουργία (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op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ύνολο λειτουργιών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ύνδεσ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πρωτόκολλο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ρισμός διεύθυνσης δικτύου σ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: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ύνολο απ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point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υ υλοποιούν έν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9280" y="69372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definition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interfa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interfac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binding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binding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servic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servic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definition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44360" y="1628640"/>
            <a:ext cx="25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4360" y="3141720"/>
            <a:ext cx="25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06200" y="4581360"/>
            <a:ext cx="25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9280" y="69372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definition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interfa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xs:NC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6600"/>
                </a:solidFill>
                <a:latin typeface="Arial"/>
              </a:rPr>
              <a:t>extend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list of xs:Q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operatio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operatio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operatio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operatio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interfac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binding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binding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servic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servic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definition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93800" y="1628640"/>
            <a:ext cx="25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26920" y="3143160"/>
            <a:ext cx="25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78920" y="693720"/>
            <a:ext cx="9145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definition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interfa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xs:NC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extend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list of xs:Q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oper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xs:NC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6600"/>
                </a:solidFill>
                <a:latin typeface="Arial"/>
              </a:rPr>
              <a:t>patter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lang="el-GR" sz="1600" spc="-1" strike="noStrike">
                <a:solidFill>
                  <a:srgbClr val="0066ff"/>
                </a:solidFill>
                <a:latin typeface="Arial"/>
              </a:rPr>
              <a:t>http://www.w3.org/2004/03/wsdl/in-opt-ou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input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union of xs:QName, xs:Toke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?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inpu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output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union of xs:QName, xs:Toke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?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outpu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operatio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interfac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binding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binding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servic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servic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definition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9280" y="69372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definition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interfa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xs:NC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extend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list of xs:Q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ope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xs:NC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patter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lang="el-GR" sz="1600" spc="-1" strike="noStrike">
                <a:solidFill>
                  <a:srgbClr val="0066ff"/>
                </a:solidFill>
                <a:latin typeface="Arial"/>
              </a:rPr>
              <a:t>http://www.w3.org/2004/03/wsdl/in-opt-ou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inpu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union of xs:QName, xs:Toke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?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inpu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outpu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union of xs:QName, xs:Toke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?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outpu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operatio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interfac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binding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xs:NC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6600"/>
                </a:solidFill>
                <a:latin typeface="Arial"/>
              </a:rPr>
              <a:t>interfac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xs:Q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?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soap:binding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6600"/>
                </a:solidFill>
                <a:latin typeface="Arial"/>
              </a:rPr>
              <a:t>protocol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lang="el-GR" sz="1600" spc="-1" strike="noStrike">
                <a:solidFill>
                  <a:srgbClr val="0066ff"/>
                </a:solidFill>
                <a:latin typeface="Arial"/>
              </a:rPr>
              <a:t>http://www.w3.org/2003/05/soap/bindings/HTTP/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l-GR" sz="1600" spc="-1" strike="noStrike">
                <a:solidFill>
                  <a:srgbClr val="006600"/>
                </a:solidFill>
                <a:latin typeface="Arial"/>
              </a:rPr>
              <a:t>styleDefaul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lang="el-GR" sz="1600" spc="-1" strike="noStrike">
                <a:solidFill>
                  <a:srgbClr val="0066ff"/>
                </a:solidFill>
                <a:latin typeface="Arial"/>
              </a:rPr>
              <a:t>document|rp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binding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servic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servic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definition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79280" y="69372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definition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interfa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xs:NC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extend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list of xs:Q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ope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xs:NC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patter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lang="el-GR" sz="1600" spc="-1" strike="noStrike">
                <a:solidFill>
                  <a:srgbClr val="0066ff"/>
                </a:solidFill>
                <a:latin typeface="Arial"/>
              </a:rPr>
              <a:t>http://www.w3.org/2004/03/wsdl/in-opt-ou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inpu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union of xs:QName, xs:Toke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?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inpu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outpu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union of xs:QName, xs:Toke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?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outpu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operatio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interfac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binding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xs:NC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interfac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xs:Q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?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soap:binding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protocol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lang="el-GR" sz="1600" spc="-1" strike="noStrike">
                <a:solidFill>
                  <a:srgbClr val="0066ff"/>
                </a:solidFill>
                <a:latin typeface="Arial"/>
              </a:rPr>
              <a:t>http://www.w3.org/2003/05/soap/bindings/HTTP/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styleDefaul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lang="el-GR" sz="1600" spc="-1" strike="noStrike">
                <a:solidFill>
                  <a:srgbClr val="0066ff"/>
                </a:solidFill>
                <a:latin typeface="Arial"/>
              </a:rPr>
              <a:t>document|rp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binding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service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xs:NC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el-GR" sz="1600" spc="-1" strike="noStrike">
                <a:solidFill>
                  <a:srgbClr val="006600"/>
                </a:solidFill>
                <a:latin typeface="Arial"/>
              </a:rPr>
              <a:t>interfac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xs:Q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endpoin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endpoin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endpoin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endpoin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servic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definition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79280" y="69372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definition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interfa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xs:NC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extend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list of xs:Q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ope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xs:NC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patter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lang="el-GR" sz="1600" spc="-1" strike="noStrike">
                <a:solidFill>
                  <a:srgbClr val="0066ff"/>
                </a:solidFill>
                <a:latin typeface="Arial"/>
              </a:rPr>
              <a:t>http://www.w3.org/2004/03/wsdl/in-opt-ou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inpu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union of xs:QName, xs:Toke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?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inpu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outpu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elemen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union of xs:QName, xs:Toke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?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outpu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operatio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interfac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binding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xs:NC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interfac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xs:Q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?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soap:binding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protocol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lang="el-GR" sz="1600" spc="-1" strike="noStrike">
                <a:solidFill>
                  <a:srgbClr val="0066ff"/>
                </a:solidFill>
                <a:latin typeface="Arial"/>
              </a:rPr>
              <a:t>http://www.w3.org/2003/05/soap/bindings/HTTP/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styleDefaul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lang="el-GR" sz="1600" spc="-1" strike="noStrike">
                <a:solidFill>
                  <a:srgbClr val="0066ff"/>
                </a:solidFill>
                <a:latin typeface="Arial"/>
              </a:rPr>
              <a:t>document|rp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binding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servic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xs:NC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el-GR" sz="1600" spc="-1" strike="noStrike">
                <a:solidFill>
                  <a:srgbClr val="006600"/>
                </a:solidFill>
                <a:latin typeface="Arial"/>
              </a:rPr>
              <a:t>interfac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xs:Q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endpoint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xs:NC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6600"/>
                </a:solidFill>
                <a:latin typeface="Arial"/>
              </a:rPr>
              <a:t>binding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xs:QNam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soap:address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6600"/>
                </a:solidFill>
                <a:latin typeface="Arial"/>
              </a:rPr>
              <a:t>locatio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="uri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1" lang="el-GR" sz="1600" spc="-1" strike="noStrike">
                <a:solidFill>
                  <a:srgbClr val="990000"/>
                </a:solidFill>
                <a:latin typeface="Arial"/>
              </a:rPr>
              <a:t>endpoint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service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l-GR" sz="1600" spc="-1" strike="noStrike">
                <a:solidFill>
                  <a:srgbClr val="990000"/>
                </a:solidFill>
                <a:latin typeface="Arial"/>
              </a:rPr>
              <a:t>definition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34920" y="458136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D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95280" y="3212640"/>
            <a:ext cx="8353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al Description, Discovery and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Τι είναι το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DD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ροδιαγραφές για Κατανεμημένα Μητρώα Πληροφοριών σχετικά μ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ices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λοποίηση των προδιαγραφών για δήλωση πληροφοριών σχετικά μ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Τι παρέχει το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D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Έναν τυποποιημένο, διαφανή μηχανισμό για την περιγραφή υπηρεσιώ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Έναν απλό μηχανισμό για την κλήση μιας υπηρεσία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Ένα κεντρικό και προσβάσιμο μητρώο υπηρεσι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108000" y="1773360"/>
            <a:ext cx="9396360" cy="21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1998720"/>
            <a:ext cx="5042160" cy="1523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19280" y="4365720"/>
            <a:ext cx="597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Αποσκοπεί στην επικοινωνία με </a:t>
            </a:r>
            <a:r>
              <a:rPr b="1" lang="el-GR" sz="2000" spc="-1" strike="noStrike" u="sng">
                <a:solidFill>
                  <a:srgbClr val="ff0000"/>
                </a:solidFill>
                <a:uFillTx/>
                <a:latin typeface="Arial"/>
              </a:rPr>
              <a:t>εφαρμογ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σοδος - Έξοδο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-processable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Βασικά Στοιχεία και Χαρακτηριστικά το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D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Λευκές Σελίδ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νομα Επιχείρη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αγνωριστικ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ιεύθυνση, στοιχεία επαφή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Κίτρινες Σελίδ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ομές Κατάταξης και Ταξινόμησης(π.χ. Γεωγραφία, Κωδικός Βιομηχανίας κλ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ράσινες Σελίδ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θορισμός της Τεχνικής Διεπαφής της Υπηρεσί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θορισμός Σημείου Πρόσβασης Υπηρεσίας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L, email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λ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Βασικά Στοιχεία και Χαρακτηριστικά το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D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Αναγνωριστικ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N, ACN, DUN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ι αναγνωριστικά για συγκεκριμένους επιχειρηματικούς τύπ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γγραφή σ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DI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αφηρημένης φύσης που μπορεί να επαναχρησιμοποιηθεί από πολλές επιχειρή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Αντικείμενα Αποθήκης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ository obj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DL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Μεταδεδομέ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DI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εριγράφει τα αντικείμενα αυτά, τα οποία μπορεί να βρίσκονται οπουδήποτε στο Διαδίκτυ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Κατανεμημένη Αρχιτεκτονικ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αρόμοια φιλοσοφία με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DDI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60483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Τύποι Ευρετηρίων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D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ημόσια Μητρώα (π.χ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B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πρόσβαση στο μητρώο είναι ελεύθερ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διαχείριση του μητρώου είναι ελεγχόμε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δομένα μεταφέρονται και μοιράζονται με άλλα μητρώ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Ιδιωτικά μητρώ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ητρώα απομονωμένα από το διαδίκτυ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σφαλής πρόσβαση τόσο στα δεδομένα όσο και στη διαχείρι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Ημι-Ιδιωτικ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Όχι πλήρως απομονωμένα, αλλά με ελεγχόμενη πρόσβα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σφαλής διαχείριση μητρώου τόσο από το εσωτερικό δίκτυο όσο και από το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όπιν συμφωνί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BR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versal Business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Ένας Κεντρικός Κατάλογος Δημόσια διαθέσιμων Υπηρεσιών Ηλεκτρονικού Εμπορί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λοποιείται με τη χρήση το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DI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υντηρείται και διαχειρίζεται από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, Microsoft, NTT Com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P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τέσσερις εταιρίες λειτουργούν σαν κόμβοι-ρίζες (όπως 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sig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Αλληλεπίδραση με το Μητρώ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Έκδοση 3 της Προδιαγραφής για τ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D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ρήση το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DI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ια την υποστήριξη ποικίλων Δικτυακών Τοπολογιών και Υποδομ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 Alone, Single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Ιεραρχικ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μότιμ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 εξουσιοδότη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λ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Η Δομή ενός Μητρώου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DDI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μπορεί πλέον να αντανακλά τις πραγματικές σχέσεις των υποκείμενων επιχειρηματικών διεργασι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οντέλα Αλληλεπίδρασης με το Μητρώο (στην έκδοση 3 το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DDI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63600" y="1600200"/>
            <a:ext cx="6615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Κύριες Λειτουργίε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αραγωγή Κλειδιών Καταχώρησης και διαχείριση αυτ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θορισμός του συντακτικού των κλειδι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ομή που επιβάλει τη μοναδικότητα των κλειδι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ημοσίευση των κλειδιών σε πολλαπλά ευρετήρ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αραδείγματα Κλειδιών Μητρώο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domain-based k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uddi:somecompany.com:service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globally unique identifi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uddi:4CD7E4BC-648B-426D-9936-443EAAC8AE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Κύριες Λειτουργίε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ημοσίευση Υπηρεσιών και Εγγραφή σε Υπηρεσί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ημοσίευση Υπηρεσ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ίνεται η δυνατότητα στο χρήστη ή στο σύστημα να δημοσιεύσει πληροφορίες σε ένα μητρώο και στη διαδικασία να παραχθεί και να ανατεθεί ένα Κλειδ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θορισμός κανόνων για τη διαχείριση μοναδικών και μη μοναδικών κλειδι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θορισμός του ρόλου του Κεντρικού Μητρώου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και των συνεργαζόμενων μητρώ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νημέρωση και διαγραφή οντοτήτ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γγραφή σε Υπηρεσί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ιδοποίηση για νέες εγγραφές Επιχειρήσεων ή Υπηρεσι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λλαγές σε υπάρχουσες Επιχειρήσεις ή Υπηρεσί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άκτηση δεδομένων Μητρώου για χρήση σε Ιδιωτικό Μητρώ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άκτηση δεδομένων Μητρώο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χρήση από ένα διαχειριστ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Κύριες Λειτουργίε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Εξασφάλιση της Ακεραιότητας των Δεδομέν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Χρήση Ψηφιακών Υπογραφών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I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περισσότερα δεδομένα μιας εγγραφής μπορούν να υπογραφούν ψηφιακά σύμφωνα με τις προδιαγραφές για το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προδιαγραφές το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DI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ν καθορίζουν συγκεκριμένες προδιαγραφές ασφάλεια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ρέχουν όμως τα μέσα ώστε κάθε υλοποίηση μητρώο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DI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α μπορεί να παρέχει λύσεις σχετικά με την ασφάλεια και την εξουσιοδότη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1744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0520" y="2997360"/>
            <a:ext cx="3687840" cy="2879640"/>
            <a:chOff x="20520" y="2997360"/>
            <a:chExt cx="3687840" cy="287964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20520" y="2997360"/>
              <a:ext cx="289584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684360" y="4437000"/>
              <a:ext cx="182376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34000" y="3213000"/>
              <a:ext cx="2331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66"/>
                  </a:solidFill>
                  <a:latin typeface="Comic Sans MS"/>
                </a:rPr>
                <a:t>Thessalia Tour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95640" y="5013360"/>
              <a:ext cx="151272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708360" y="3068640"/>
            <a:ext cx="5400720" cy="3234960"/>
            <a:chOff x="3708360" y="3068640"/>
            <a:chExt cx="5400720" cy="3234960"/>
          </a:xfrm>
        </p:grpSpPr>
        <p:grpSp>
          <p:nvGrpSpPr>
            <p:cNvPr id="59" name=""/>
            <p:cNvGrpSpPr/>
            <p:nvPr/>
          </p:nvGrpSpPr>
          <p:grpSpPr>
            <a:xfrm>
              <a:off x="3708360" y="4508640"/>
              <a:ext cx="1584360" cy="1063440"/>
              <a:chOff x="3708360" y="4508640"/>
              <a:chExt cx="1584360" cy="1063440"/>
            </a:xfrm>
          </p:grpSpPr>
          <p:sp>
            <p:nvSpPr>
              <p:cNvPr id="60" name="Cloud"/>
              <p:cNvSpPr/>
              <p:nvPr/>
            </p:nvSpPr>
            <p:spPr>
              <a:xfrm>
                <a:off x="3708360" y="4508640"/>
                <a:ext cx="1584360" cy="1063440"/>
              </a:xfrm>
              <a:prstGeom prst="pi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997440" y="4805280"/>
                <a:ext cx="101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Intern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6337440" y="3068640"/>
              <a:ext cx="2771640" cy="3234960"/>
              <a:chOff x="6337440" y="3068640"/>
              <a:chExt cx="2771640" cy="3234960"/>
            </a:xfrm>
          </p:grpSpPr>
          <p:pic>
            <p:nvPicPr>
              <p:cNvPr id="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337440" y="3068640"/>
                <a:ext cx="2771640" cy="302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6374520" y="5661000"/>
                <a:ext cx="2487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Web Servi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333399"/>
                    </a:solidFill>
                    <a:latin typeface="Arial"/>
                  </a:rPr>
                  <a:t>«διαθέσιμα δωμάτια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59560" y="4437000"/>
                <a:ext cx="1828800" cy="112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6928920" y="3506760"/>
                <a:ext cx="2158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cc0066"/>
                    </a:solidFill>
                    <a:latin typeface="Comic Sans MS"/>
                  </a:rPr>
                  <a:t>Hotel “Anesis”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5292720" y="5013360"/>
              <a:ext cx="158436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835280" y="4581360"/>
            <a:ext cx="1008000" cy="432000"/>
          </a:xfrm>
          <a:prstGeom prst="cube">
            <a:avLst>
              <a:gd name="adj" fmla="val 20259"/>
            </a:avLst>
          </a:prstGeom>
          <a:gradFill rotWithShape="0">
            <a:gsLst>
              <a:gs pos="0">
                <a:srgbClr val="ff66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7/6/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84720" y="4581360"/>
            <a:ext cx="1008360" cy="432000"/>
          </a:xfrm>
          <a:prstGeom prst="cube">
            <a:avLst>
              <a:gd name="adj" fmla="val 20259"/>
            </a:avLst>
          </a:prstGeom>
          <a:gradFill rotWithShape="0">
            <a:gsLst>
              <a:gs pos="0">
                <a:srgbClr val="ff66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72, 2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663520" y="2960640"/>
            <a:ext cx="1212480" cy="684360"/>
            <a:chOff x="5663520" y="2960640"/>
            <a:chExt cx="1212480" cy="684360"/>
          </a:xfrm>
        </p:grpSpPr>
        <p:sp>
          <p:nvSpPr>
            <p:cNvPr id="71" name=""/>
            <p:cNvSpPr/>
            <p:nvPr/>
          </p:nvSpPr>
          <p:spPr>
            <a:xfrm>
              <a:off x="5663520" y="2960640"/>
              <a:ext cx="121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00720" y="3357720"/>
              <a:ext cx="432000" cy="287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627280" y="2960640"/>
            <a:ext cx="1427400" cy="684360"/>
            <a:chOff x="2627280" y="2960640"/>
            <a:chExt cx="1427400" cy="684360"/>
          </a:xfrm>
        </p:grpSpPr>
        <p:sp>
          <p:nvSpPr>
            <p:cNvPr id="74" name=""/>
            <p:cNvSpPr/>
            <p:nvPr/>
          </p:nvSpPr>
          <p:spPr>
            <a:xfrm>
              <a:off x="2627280" y="2960640"/>
              <a:ext cx="142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ques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844720" y="3357720"/>
              <a:ext cx="432000" cy="287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68360" y="1123920"/>
            <a:ext cx="82296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Web Services Glossary (W3C 11/2/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ύστημα λογισμικού που υποστηρίζει διαλειτουργική αλληλεπίδραση μεταξύ μηχανών πάνω από δίκτυ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χει έν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ε επεξεργάσιμο από μηχανή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Άλλα συστήματα αλληλεπιδρούν με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με τρόπο προδιαγεγραμμένο από την περιγραφή το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ησιμοποιώντας μηνύματ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6763E-006 L 0.50417 1.6763E-006 E">
                                      <p:cBhvr>
                                        <p:cTn id="18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6763E-006 L -0.51181 1.6763E-006 E">
                                      <p:cBhvr>
                                        <p:cTn id="29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Συμπερασματικ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ιάδοση τω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ice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ι των πλεονεκτημάτων τους όχι μόνο στο προσωπικό ΙΤ αλλά και στα στελέχη επιχειρήσε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υξημένη ευελιξία και αξιοποίηση των πόρων Ι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λοκλήρωση και συντονισμός μεταξύ συστημά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ιωμένο κόστος ανάπτυξης εφαρμογ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ξέλιξη και ωρίμανση το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τανακλά πραγματικές επιχειρηματικές ανάγκ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μφαση στην αλληλεπίδραση ιδιωτικών και δημόσιων μητρώων (έκδοση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s Architecture, W3C Working Group Note 11/2/2004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3.org/TR/2004/NOTE-ws-arch-200402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s Architecture Usage Scenarios, W3C Working Group Note 11/2/2004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3.org/TR/2004/NOTE-ws-arch-scenarios-200402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s Glossary, W3C Working Group Note 11/2/2004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w3.org/TR/2004/NOTE-ws-gloss-200402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s Description Language (WSDL) Version 2.0 Part 0: Primer, Editor’s copy, 05/11/2003, </a:t>
            </a:r>
            <a:r>
              <a:rPr b="0" lang="en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w3.org/2002/ws/desc/wsdl20-pr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s Description Language (WSDL) Version 2.0 Part 1: Core Language, W3C Working Draft, 26/3/2004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w3.org/TR/2004/WD-wsdl20-200403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s Description Language (WSDL) Version 2.0 Part 2: Message Exchange Patterns, W3C Working Draft, 26/3/2004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w3.org/TR/2004/WD-wsdl20-patterns-200403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s Description Language (WSDL) Version 1.2 Part 3: Bindings, W3C Working Draft, 11/6/2003, </a:t>
            </a:r>
            <a:r>
              <a:rPr b="0" lang="en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w3.org/TR/2003/WD-wsdl12-bindings-200306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P Version 1.2 Part 0: Primer, W3C Recommendation 24 June 2003, </a:t>
            </a:r>
            <a:r>
              <a:rPr b="0" lang="en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3.org/TR/2003/REC-soap12-part0-20030624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P Version 1.2 Part 1: Messaging Framework, W3C Recommendation 24 June 2003, </a:t>
            </a:r>
            <a:r>
              <a:rPr b="0" lang="e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3.org/TR/2003/REC-soap12-part1-20030624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P Version 1.2 Part 2: Adjuncts, W3C Recommendation 24 June 2003, </a:t>
            </a:r>
            <a:r>
              <a:rPr b="0" lang="en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w3.org/TR/2003/REC-soap12-part2-20030624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nan C. Albrecht, (2004), “How clean is the future of  SOAP?”, COMMUNICATION OF THE ACM, February 2004/Vol. 47, pp. 66-6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ert Van Engelen, ”Code Generation Techniques for Developing Light-Weight XML Web Services for Embedded Devices”, Proceedings of the 2004 ACM symposium on Applied comput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DDI Technical White Paper - UDDI.org White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volution of UDDI - UDDI.org White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zDex Registry White Paper v1.0 30 Ja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DDI Version 3.0 - UDDI Spec Technical Committee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Αρχιτεκτονική των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Services</a:t>
            </a: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W3C Working Group Note 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40360" y="1557360"/>
            <a:ext cx="2465280" cy="4680000"/>
            <a:chOff x="5940360" y="1557360"/>
            <a:chExt cx="2465280" cy="4680000"/>
          </a:xfrm>
        </p:grpSpPr>
        <p:sp>
          <p:nvSpPr>
            <p:cNvPr id="79" name=""/>
            <p:cNvSpPr/>
            <p:nvPr/>
          </p:nvSpPr>
          <p:spPr>
            <a:xfrm>
              <a:off x="5940360" y="1989000"/>
              <a:ext cx="2448000" cy="4248360"/>
            </a:xfrm>
            <a:custGeom>
              <a:avLst/>
              <a:gdLst>
                <a:gd name="textAreaLeft" fmla="*/ 119520 w 2448000"/>
                <a:gd name="textAreaRight" fmla="*/ 2328480 w 2448000"/>
                <a:gd name="textAreaTop" fmla="*/ 119520 h 4248360"/>
                <a:gd name="textAreaBottom" fmla="*/ 4128840 h 4248360"/>
              </a:gdLst>
              <a:ahLst/>
              <a:rect l="textAreaLeft" t="textAreaTop" r="textAreaRight" b="textAreaBottom"/>
              <a:pathLst>
                <a:path w="21600" h="37483">
                  <a:moveTo>
                    <a:pt x="3600" y="0"/>
                  </a:moveTo>
                  <a:arcTo wR="3600" hR="3600" stAng="16200000" swAng="-5400000"/>
                  <a:lnTo>
                    <a:pt x="0" y="33883"/>
                  </a:lnTo>
                  <a:arcTo wR="3600" hR="3600" stAng="10800000" swAng="-5400000"/>
                  <a:lnTo>
                    <a:pt x="18000" y="37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cc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6372360" y="2371680"/>
              <a:ext cx="90468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419880" y="4702320"/>
              <a:ext cx="1536840" cy="1247760"/>
            </a:xfrm>
            <a:prstGeom prst="hexagon">
              <a:avLst>
                <a:gd name="adj" fmla="val 30792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45800" y="155736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10520" y="285912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612360" y="1557360"/>
            <a:ext cx="2519640" cy="4680000"/>
            <a:chOff x="612360" y="1557360"/>
            <a:chExt cx="2519640" cy="4680000"/>
          </a:xfrm>
        </p:grpSpPr>
        <p:sp>
          <p:nvSpPr>
            <p:cNvPr id="85" name=""/>
            <p:cNvSpPr/>
            <p:nvPr/>
          </p:nvSpPr>
          <p:spPr>
            <a:xfrm>
              <a:off x="684360" y="1989000"/>
              <a:ext cx="2447640" cy="4248360"/>
            </a:xfrm>
            <a:custGeom>
              <a:avLst/>
              <a:gdLst>
                <a:gd name="textAreaLeft" fmla="*/ 119160 w 2447640"/>
                <a:gd name="textAreaRight" fmla="*/ 2328480 w 2447640"/>
                <a:gd name="textAreaTop" fmla="*/ 119160 h 4248360"/>
                <a:gd name="textAreaBottom" fmla="*/ 4129200 h 4248360"/>
              </a:gdLst>
              <a:ahLst/>
              <a:rect l="textAreaLeft" t="textAreaTop" r="textAreaRight" b="textAreaBottom"/>
              <a:pathLst>
                <a:path w="21600" h="37489">
                  <a:moveTo>
                    <a:pt x="3600" y="0"/>
                  </a:moveTo>
                  <a:arcTo wR="3600" hR="3600" stAng="16200000" swAng="-5400000"/>
                  <a:lnTo>
                    <a:pt x="0" y="33889"/>
                  </a:lnTo>
                  <a:arcTo wR="3600" hR="3600" stAng="10800000" swAng="-5400000"/>
                  <a:lnTo>
                    <a:pt x="18000" y="374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cc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5320" y="2421000"/>
              <a:ext cx="90504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116000" y="4724280"/>
              <a:ext cx="1536840" cy="1247760"/>
            </a:xfrm>
            <a:prstGeom prst="hexagon">
              <a:avLst>
                <a:gd name="adj" fmla="val 30792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que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98720" y="155736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ques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2360" y="2852640"/>
              <a:ext cx="122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que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132000" y="2205000"/>
            <a:ext cx="2808360" cy="470520"/>
            <a:chOff x="3132000" y="2205000"/>
            <a:chExt cx="2808360" cy="470520"/>
          </a:xfrm>
        </p:grpSpPr>
        <p:sp>
          <p:nvSpPr>
            <p:cNvPr id="91" name=""/>
            <p:cNvSpPr/>
            <p:nvPr/>
          </p:nvSpPr>
          <p:spPr>
            <a:xfrm>
              <a:off x="3132000" y="2205000"/>
              <a:ext cx="2808360" cy="287280"/>
            </a:xfrm>
            <a:custGeom>
              <a:avLst/>
              <a:gdLst/>
              <a:ahLst/>
              <a:rect l="l" t="t" r="r" b="b"/>
              <a:pathLst>
                <a:path w="1769" h="181">
                  <a:moveTo>
                    <a:pt x="0" y="181"/>
                  </a:moveTo>
                  <a:cubicBezTo>
                    <a:pt x="283" y="90"/>
                    <a:pt x="567" y="0"/>
                    <a:pt x="862" y="0"/>
                  </a:cubicBezTo>
                  <a:cubicBezTo>
                    <a:pt x="1157" y="0"/>
                    <a:pt x="1463" y="90"/>
                    <a:pt x="1769" y="181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49320" y="2276640"/>
              <a:ext cx="175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0" lang="el-GR" sz="2000" spc="-1" strike="noStrike">
                  <a:solidFill>
                    <a:srgbClr val="000000"/>
                  </a:solidFill>
                  <a:latin typeface="Comic Sans MS"/>
                </a:rPr>
                <a:t>ανακάλυψη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132000" y="3645000"/>
            <a:ext cx="2808360" cy="916920"/>
            <a:chOff x="3132000" y="3645000"/>
            <a:chExt cx="2808360" cy="916920"/>
          </a:xfrm>
        </p:grpSpPr>
        <p:sp>
          <p:nvSpPr>
            <p:cNvPr id="94" name=""/>
            <p:cNvSpPr/>
            <p:nvPr/>
          </p:nvSpPr>
          <p:spPr>
            <a:xfrm>
              <a:off x="3132000" y="3645000"/>
              <a:ext cx="2808360" cy="287280"/>
            </a:xfrm>
            <a:custGeom>
              <a:avLst/>
              <a:gdLst/>
              <a:ahLst/>
              <a:rect l="l" t="t" r="r" b="b"/>
              <a:pathLst>
                <a:path w="1769" h="181">
                  <a:moveTo>
                    <a:pt x="0" y="181"/>
                  </a:moveTo>
                  <a:cubicBezTo>
                    <a:pt x="283" y="90"/>
                    <a:pt x="567" y="0"/>
                    <a:pt x="862" y="0"/>
                  </a:cubicBezTo>
                  <a:cubicBezTo>
                    <a:pt x="1157" y="0"/>
                    <a:pt x="1463" y="90"/>
                    <a:pt x="1769" y="181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2200" y="3645000"/>
              <a:ext cx="198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Comic Sans MS"/>
                </a:rPr>
                <a:t>συμφωνί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Comic Sans MS"/>
                </a:rPr>
                <a:t>για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l-GR" sz="1800" spc="-1" strike="noStrike">
                  <a:solidFill>
                    <a:srgbClr val="000000"/>
                  </a:solidFill>
                  <a:latin typeface="Comic Sans MS"/>
                </a:rPr>
                <a:t>τρόπ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Comic Sans MS"/>
                </a:rPr>
                <a:t>αλληλεπίδραση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684520" y="5319720"/>
            <a:ext cx="3744720" cy="703800"/>
            <a:chOff x="2684520" y="5319720"/>
            <a:chExt cx="3744720" cy="703800"/>
          </a:xfrm>
        </p:grpSpPr>
        <p:sp>
          <p:nvSpPr>
            <p:cNvPr id="97" name=""/>
            <p:cNvSpPr/>
            <p:nvPr/>
          </p:nvSpPr>
          <p:spPr>
            <a:xfrm>
              <a:off x="2684520" y="5343480"/>
              <a:ext cx="37447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64520" y="5319720"/>
              <a:ext cx="156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ανταλλαγ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μηνυμάτω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627280" y="5013360"/>
            <a:ext cx="720720" cy="288720"/>
          </a:xfrm>
          <a:prstGeom prst="cube">
            <a:avLst>
              <a:gd name="adj" fmla="val 20259"/>
            </a:avLst>
          </a:prstGeom>
          <a:gradFill rotWithShape="0">
            <a:gsLst>
              <a:gs pos="0">
                <a:srgbClr val="ff66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5013360"/>
            <a:ext cx="720720" cy="288720"/>
          </a:xfrm>
          <a:prstGeom prst="cube">
            <a:avLst>
              <a:gd name="adj" fmla="val 20259"/>
            </a:avLst>
          </a:prstGeom>
          <a:gradFill rotWithShape="0">
            <a:gsLst>
              <a:gs pos="0">
                <a:srgbClr val="ff66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87283E-006 L 0.37014 -3.87283E-006 E">
                                      <p:cBhvr>
                                        <p:cTn id="7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87283E-006 L -0.37014 -3.87283E-006 E">
                                      <p:cBhvr>
                                        <p:cTn id="8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Περίπτωση χρήσης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 c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2052720"/>
            <a:ext cx="77752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Τεχνολογίες για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05080" y="1484280"/>
            <a:ext cx="6333840" cy="4390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874960" y="6064200"/>
            <a:ext cx="33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 Services Architecture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AP 1.2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ject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ces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tocol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Τι είναι το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AP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398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AP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ίναι ένα πρότυπο για την αποστολή μηνυμάτων ανάμεσα σε έναν αρχικό αποστολέα και έναν τελικό παραλήπτ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Βασίζεται στη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ίναι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ανεξάρτητο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από οποιαδήποτε πλατφόρμα και ανεξάρτητο από οποιαδήποτε γλώσσ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πορεί να περνάει μέσα από τ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s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8888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16:24Z</dcterms:created>
  <dc:creator>A</dc:creator>
  <dc:description/>
  <dc:language>en-US</dc:language>
  <cp:lastModifiedBy>perinfo</cp:lastModifiedBy>
  <dcterms:modified xsi:type="dcterms:W3CDTF">2004-05-21T11:39:44Z</dcterms:modified>
  <cp:revision>60</cp:revision>
  <dc:subject/>
  <dc:title>Web Services</dc:title>
</cp:coreProperties>
</file>